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108-19B1-4DD1-9B7E-B50EB2F9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A57-B047-4431-9217-23BC311B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1A0-8CC6-429A-8C48-6A666D58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903-0109-4310-AE2F-69F3D23F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9ABA4-4C3C-4FF2-A89D-163ED400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A1FC8-A079-436F-B33C-AFBF1F2C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EC68F-0F10-4432-AC16-C4D02195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F9201-EFB6-4894-9A47-9BA0DE62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6A1AD-C7AE-44E8-8D17-8D7712D6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3845F-0A50-49CB-ACDC-4659F86B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E2D1B-5B85-477A-A2A5-DC6D5F38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F21-106F-4326-84D5-74E67087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07A94-2799-43AA-8A36-CF3FA43E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C893F-7FF7-47C1-9D17-043C4F37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F2F8D-D740-4449-B199-320728B8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15B0C-4FFD-47A6-986C-550A904A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DC6AF-E06D-4C66-B9F7-7540E57B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EA9-FA37-474C-8662-AB6505E8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A8E-28B9-4D42-BB72-481766A0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D5B-1449-40EC-BADA-5672495B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F1C-115A-4D70-947F-4D600802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5D5-DA2A-4521-965B-C2A5F759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43C-8580-4F7A-8CCF-16FDBF74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57A-61FE-4262-94FC-A72DBCC1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66CA-56D9-44F1-AB3B-1BF2465D17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F78A-711D-423E-810E-16FBD89B29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volcano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volcan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vroma.org/images/bonvallet_images/" TargetMode="External"/><Relationship Id="rId3" Type="http://schemas.openxmlformats.org/officeDocument/2006/relationships/hyperlink" Target="http://www.vroma.org/images/bonvallet_images/" TargetMode="External"/><Relationship Id="rId4" Type="http://schemas.openxmlformats.org/officeDocument/2006/relationships/hyperlink" Target="http://www.vroma.org/images/bonvallet_images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3188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edff"/>
                </a:solidFill>
                <a:latin typeface="Arial"/>
              </a:rPr>
              <a:t>How does the environment affect its people?</a:t>
            </a:r>
            <a:endParaRPr b="0" lang="en-US" sz="48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Naples and the Sorrento Peninsular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91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Figure A on Page 78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south of Naples is the Sorrento Peninsula. What are the main differences between this area and the city of Nap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hi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ner so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raced far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r settl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at the differences between the following two photographs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aple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130800" cy="5019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32000" y="63086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ource: http://www.nsa.naples.navy.mil/psd/images/Vesuvio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3edff"/>
                </a:solidFill>
                <a:latin typeface="Arial"/>
              </a:rPr>
              <a:t>Amalfi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508360" cy="4132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979640" y="5734080"/>
            <a:ext cx="518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www.foto.portanapoli.com/ FOTO/amalfi_panorama.jpg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be provided with copies of Figures D and E on Page 79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airs, complete the tab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9640" y="3284640"/>
          <a:ext cx="8064360" cy="2462040"/>
        </p:xfrm>
        <a:graphic>
          <a:graphicData uri="http://schemas.openxmlformats.org/drawingml/2006/table">
            <a:tbl>
              <a:tblPr/>
              <a:tblGrid>
                <a:gridCol w="1715040"/>
                <a:gridCol w="1510560"/>
                <a:gridCol w="1613160"/>
                <a:gridCol w="1681920"/>
                <a:gridCol w="154368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aa99"/>
                          </a:solidFill>
                          <a:latin typeface="Arial"/>
                          <a:ea typeface="Arial"/>
                        </a:rPr>
                        <a:t>Area 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aa99"/>
                          </a:solidFill>
                          <a:latin typeface="Arial"/>
                          <a:ea typeface="Arial"/>
                        </a:rPr>
                        <a:t>Area 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aa99"/>
                          </a:solidFill>
                          <a:latin typeface="Arial"/>
                          <a:ea typeface="Arial"/>
                        </a:rPr>
                        <a:t>Area 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aa99"/>
                          </a:solidFill>
                          <a:latin typeface="Arial"/>
                          <a:ea typeface="Arial"/>
                        </a:rPr>
                        <a:t>Area 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aa99"/>
                          </a:solidFill>
                          <a:latin typeface="Arial"/>
                          <a:ea typeface="Arial"/>
                        </a:rPr>
                        <a:t>Settl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aa99"/>
                          </a:solidFill>
                          <a:latin typeface="Arial"/>
                          <a:ea typeface="Arial"/>
                        </a:rPr>
                        <a:t>Land 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aa99"/>
                          </a:solidFill>
                          <a:latin typeface="Arial"/>
                          <a:ea typeface="Arial"/>
                        </a:rPr>
                        <a:t>Job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Activity - Answe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409760"/>
                <a:gridCol w="1882800"/>
              </a:tblGrid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aa99"/>
                          </a:solidFill>
                          <a:latin typeface="Arial"/>
                          <a:ea typeface="Arial"/>
                        </a:rPr>
                        <a:t>Area 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aa99"/>
                          </a:solidFill>
                          <a:latin typeface="Arial"/>
                          <a:ea typeface="Arial"/>
                        </a:rPr>
                        <a:t>Area 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aa99"/>
                          </a:solidFill>
                          <a:latin typeface="Arial"/>
                          <a:ea typeface="Arial"/>
                        </a:rPr>
                        <a:t>Area 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aa99"/>
                          </a:solidFill>
                          <a:latin typeface="Arial"/>
                          <a:ea typeface="Arial"/>
                        </a:rPr>
                        <a:t>Area 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aa99"/>
                          </a:solidFill>
                          <a:latin typeface="Arial"/>
                          <a:ea typeface="Arial"/>
                        </a:rPr>
                        <a:t>Settl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clea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per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all nucleated settl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aa99"/>
                          </a:solidFill>
                          <a:latin typeface="Arial"/>
                          <a:ea typeface="Arial"/>
                        </a:rPr>
                        <a:t>Land 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ilt-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ilt-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rm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inly scrub, some built-up, some farm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aa99"/>
                          </a:solidFill>
                          <a:latin typeface="Arial"/>
                          <a:ea typeface="Arial"/>
                        </a:rPr>
                        <a:t>Job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urism, Fa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me tour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rm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urism, farming, ship build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Activitie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farming better in Area Y than Area Z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 why settlement patterns in Area X and Area Z are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Volcanoe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olcano is a vent in the Earth’s surface through which magma and gases eru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2924280"/>
            <a:ext cx="6985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tive volca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A volcano that has erupted recently and is likely to erupt ag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rmant volca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A volcano that has erupted within historic times (in the last 2,000 years) but not rec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tinct volca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A volcano that has not erupted in volcanic times and is not likely to erupt agai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Mount Vesuviu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nt Vesuvius is an active volcano, but it is not currently erupt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st time it erupted was in 1944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Mount Vesuviu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561080" cy="4854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26920" y="6381720"/>
            <a:ext cx="80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http://www.solarnavigator.net/geography/geography_images/mount_vesuvius.j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Activity: Volcano Diagram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202" name="" descr="volcano diagram to lab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413000"/>
            <a:ext cx="6248520" cy="4595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68360" y="1844640"/>
            <a:ext cx="1942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the sheet provided, label the volcano dia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Aim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im of today’s lesson is to understand how the physical environment can affect peop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focus on the Gulf of Naples, Southern It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Activity: Answe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205" name="" descr="volcano diagram to lab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341360"/>
            <a:ext cx="612144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people live near to volcanoes even though they are so dangero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you ever live near to o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you had been born there? Would you move aw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ine that Mt. Vesuvius, near Naples, erupted. Produce a newspaper article describing the disaster. It must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me of the news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e and 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tion of what happe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ye witness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s (e.g. cost, number of casualties, number of houses destroyed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edff"/>
                </a:solidFill>
                <a:latin typeface="Arial"/>
              </a:rPr>
              <a:t>Starter</a:t>
            </a:r>
            <a:endParaRPr b="0" lang="en-US" sz="36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34179" t="18248" r="32030" b="35418"/>
          <a:stretch/>
        </p:blipFill>
        <p:spPr>
          <a:xfrm>
            <a:off x="1619280" y="1052640"/>
            <a:ext cx="5994360" cy="5805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56000" y="62064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me the cities and volcano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55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eno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92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ur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n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50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a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530064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ler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12000" y="162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40720" y="2492280"/>
            <a:ext cx="115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suvi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12000" y="400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Ba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40720" y="472428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t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19280" y="3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26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eno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ur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n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472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a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56720" y="112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51664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ler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56720" y="3716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Ba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91640" y="1916280"/>
            <a:ext cx="115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suvi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56720" y="443700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t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34179" t="18248" r="32030" b="35418"/>
          <a:stretch/>
        </p:blipFill>
        <p:spPr>
          <a:xfrm>
            <a:off x="1619280" y="836640"/>
            <a:ext cx="5834160" cy="6021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56000" y="189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edff"/>
                </a:solidFill>
                <a:latin typeface="Arial"/>
                <a:ea typeface="Arial"/>
              </a:rPr>
              <a:t>Starter: Answ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187280" y="4437000"/>
            <a:ext cx="3889440" cy="5047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116000" y="2133720"/>
            <a:ext cx="3384720" cy="201600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2000" y="5734080"/>
            <a:ext cx="3456000" cy="7128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1484280"/>
            <a:ext cx="3168720" cy="21607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156000" y="3933720"/>
            <a:ext cx="1800360" cy="3589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435280" y="2276640"/>
            <a:ext cx="2521080" cy="201600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419280" y="1268280"/>
            <a:ext cx="4537080" cy="79236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579640" y="4724280"/>
            <a:ext cx="2305080" cy="11527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042920" y="2276280"/>
            <a:ext cx="1800360" cy="108108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2349360"/>
            <a:ext cx="2089080" cy="21600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to Pages 78 and 79 in ‘New Interactions.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esson will look at the town of Naples and its surrounding area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own of Naples grew up next to Mount Vesuv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80000" y="1600200"/>
            <a:ext cx="3973320" cy="4495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93080" y="4221000"/>
            <a:ext cx="71280" cy="7164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72360" y="407664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p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4360" y="41497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36000" y="400536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nt Vesuvi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aple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earliest settled parts of Italy was around Mount Vesuvius and the Gulf of Nap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people settle 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3e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il around Mt Vesuvius suitable for fa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3e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to sea – allowed people to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5013360"/>
            <a:ext cx="655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mous ancient town of Pompeii was destroyed by falling ash from the eruption of Mount Vesuvius in AD79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culaneum was also destroyed by mud flows from the AD79 volcanic erup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ins of these two towns now attract touris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Theatre, Pompeii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553080" cy="4280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403280" y="566100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ource: </a:t>
            </a:r>
            <a:r>
              <a:rPr b="0" lang="en-GB" sz="1800" spc="-1" strike="noStrike" u="sng">
                <a:solidFill>
                  <a:srgbClr val="ffcfab"/>
                </a:solidFill>
                <a:uFillTx/>
                <a:latin typeface="Arial"/>
                <a:ea typeface="Arial"/>
                <a:hlinkClick r:id="rId2"/>
              </a:rPr>
              <a:t>www.vroma.org</a:t>
            </a:r>
            <a:r>
              <a:rPr b="0" lang="en-GB" sz="1800" spc="-1" strike="noStrike" u="sng">
                <a:solidFill>
                  <a:srgbClr val="ffcfab"/>
                </a:solidFill>
                <a:uFillTx/>
                <a:latin typeface="Arial"/>
                <a:ea typeface="Arial"/>
                <a:hlinkClick r:id="rId3"/>
              </a:rPr>
              <a:t>/images/ </a:t>
            </a:r>
            <a:r>
              <a:rPr b="0" lang="en-GB" sz="1800" spc="-1" strike="noStrike" u="sng">
                <a:solidFill>
                  <a:srgbClr val="ffcfab"/>
                </a:solidFill>
                <a:uFillTx/>
                <a:latin typeface="Arial"/>
                <a:ea typeface="Arial"/>
                <a:hlinkClick r:id="rId4"/>
              </a:rPr>
              <a:t>bonvallet_imag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12:53:48Z</dcterms:created>
  <dc:creator>Brown</dc:creator>
  <dc:description/>
  <dc:language>en-US</dc:language>
  <cp:lastModifiedBy>ISS</cp:lastModifiedBy>
  <dcterms:modified xsi:type="dcterms:W3CDTF">2005-03-14T14:47:28Z</dcterms:modified>
  <cp:revision>19</cp:revision>
  <dc:subject/>
  <dc:title>How does the environment affect its people</dc:title>
</cp:coreProperties>
</file>